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FE3-F071-4C61-8082-CB102EDF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14F-BB97-4BF0-A30E-836135C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DA1-4A3B-49A2-A28C-BF702CEB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0C5-8211-4806-8AEA-7C14DC42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593F-367A-47CF-80C0-E65FAF22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0630-8F91-430C-AACC-76A73121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7D03-B01F-4F78-A910-69E69AE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C60E-69D7-4693-B146-37B31A3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FD79-03F7-4A43-8394-0471024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D4D8-5123-4E0D-A9F4-59019BF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A83E-26C8-42D0-A835-1B666F94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09B-86AB-43DC-AFA3-B5AE7155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96BD-1203-42AD-B44B-E2A599B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FC81-E3E7-4124-977F-A9AE79FE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BC86-CECE-4913-8F5C-2CBDF3FE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8AE0-4B80-4AD4-A733-F3AB73C8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8C65-DB28-48A2-A023-E9EE02E2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DA2-554A-4C85-AF1B-7E287489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315-98D3-4120-8467-312E1F6F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C13-45C5-46E5-9C1A-350CED36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276-0650-462E-8352-6A1DD277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737-3BB6-4804-B044-A696FFB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62D-054E-4C87-839B-64C7C0A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BBD-5B41-4DCF-942C-5FAAEA6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69B3-7559-4BC5-8BED-FCA94F71FB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D8C3-1574-4004-B076-B210571A95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/" TargetMode="External"/><Relationship Id="rId2" Type="http://schemas.openxmlformats.org/officeDocument/2006/relationships/hyperlink" Target="http://wordru.ru/" TargetMode="External"/><Relationship Id="rId3" Type="http://schemas.openxmlformats.org/officeDocument/2006/relationships/hyperlink" Target="http://wordru.ru/" TargetMode="External"/><Relationship Id="rId4" Type="http://schemas.openxmlformats.org/officeDocument/2006/relationships/hyperlink" Target="http://azbyka.kz/" TargetMode="External"/><Relationship Id="rId5" Type="http://schemas.openxmlformats.org/officeDocument/2006/relationships/hyperlink" Target="http://azbyka.kz/" TargetMode="External"/><Relationship Id="rId6" Type="http://schemas.openxmlformats.org/officeDocument/2006/relationships/hyperlink" Target="http://google.ru/" TargetMode="External"/><Relationship Id="rId7" Type="http://schemas.openxmlformats.org/officeDocument/2006/relationships/hyperlink" Target="http://google.ru/" TargetMode="External"/><Relationship Id="rId8" Type="http://schemas.openxmlformats.org/officeDocument/2006/relationships/hyperlink" Target="http://google.ru/" TargetMode="External"/><Relationship Id="rId9" Type="http://schemas.openxmlformats.org/officeDocument/2006/relationships/hyperlink" Target="http://google.ru/" TargetMode="External"/><Relationship Id="rId10" Type="http://schemas.openxmlformats.org/officeDocument/2006/relationships/hyperlink" Target="http://shalamonova.ucoz.ru/" TargetMode="External"/><Relationship Id="rId11" Type="http://schemas.openxmlformats.org/officeDocument/2006/relationships/hyperlink" Target="http://mydrost.com/o-vezhlivosti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6400800" cy="3380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Исследовательская работа по теме: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      « Волшебные слова, для чего они нужны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08280"/>
            <a:ext cx="60325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Кудашова Ника  ученица 1 класс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Новочеремшанская СШ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Е.И.Столяро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Альдебенева В.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89308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ы анке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о ли вы употребляете слова вежливост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сегда;    б) иногда;   в) редко;    г) не употребля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 отношению к кому чаще вы употребляете слова вежливости?      а) ко взрослым;    б) к родственникам;   в) к друзьям;    г) ко все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слова вежливости, которые вы обычно употребляет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читаете ли вы себя вежливым человеком?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526240" cy="4753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:</a:t>
            </a: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Анкетирование  показало следующее: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Всегда - 20 детей ;  редко  -1 ребёнок;   иногда – 1 ребёнок; не употребляю – 1 ребёнок. 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Ко взрослым - 10 детей;    к друзьям - 2  ребёнка;   ко всем -11  детей;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Здравствуйте – 8 слов ; спасибо – 13 слов;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добрым утром – 5 слов; привет – 4 слова ; пожалуйста – 9 слов ; досвидания – 5 слов ;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считают себя вежливыми – 19 детей, не вежливыми – 4 ребенка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рошено было 23 ребенка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14547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и наблюдения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казали следующее: утром при встрече с учителем поздоровалось лишь 8 человек, в конце учебного дня попрощалось 6. Между собой мои одноклассники также редко говорят привет, всего 5 человек. Ну а слова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,  пожалуйста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вините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я и вовсе не слышал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жливость – одно из важнейших качеств культурного человека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258920" y="1628640"/>
            <a:ext cx="77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 проведенного мною наблюдения за одноклассниками, я поняла, что не все ученики оказались вежливыми и чтобы это исправить, мы с Валентиной Александровной решили проводить классные часы на данную тему и попробовать организовать «День Вежливости» в нашем классе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08000" y="558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собираюсь раздать небольшие памятки с правилами вежливости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644364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3"/>
          <p:cNvSpPr/>
          <p:nvPr/>
        </p:nvSpPr>
        <p:spPr>
          <a:xfrm>
            <a:off x="2535120" y="503712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751120" y="5326200"/>
            <a:ext cx="22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5" descr="http://lotte.my1.ru/novosti/vezhlivye_slova.jpg"/>
          <p:cNvPicPr/>
          <p:nvPr/>
        </p:nvPicPr>
        <p:blipFill>
          <a:blip r:embed="rId1"/>
          <a:stretch/>
        </p:blipFill>
        <p:spPr>
          <a:xfrm>
            <a:off x="250920" y="115920"/>
            <a:ext cx="4465440" cy="52880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5003640" y="115920"/>
            <a:ext cx="3240360" cy="64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что касается «Волшебных слов», то я поняла, почему они волшебные. Уверенно могу сказать, что при помощи этих слов мы можем получить то, что просим, и поблагодарить за полученно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392360" cy="54007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4788000" y="1484280"/>
            <a:ext cx="324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жливость – одно из важнейших качеств культурного человека. Не имея навыков вежливого общения, трудно произвести хорошее впечатление на окружающих. Вежливость дает радость от общения с людь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https://im2-tub-ru.yandex.net/i?id=0c9867264c01edcfc148f3f0a9f85029&amp;n=33&amp;h=215&amp;w=287"/>
          <p:cNvPicPr/>
          <p:nvPr/>
        </p:nvPicPr>
        <p:blipFill>
          <a:blip r:embed="rId1"/>
          <a:stretch/>
        </p:blipFill>
        <p:spPr>
          <a:xfrm>
            <a:off x="826920" y="765000"/>
            <a:ext cx="71298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5"/>
          <p:cNvSpPr/>
          <p:nvPr/>
        </p:nvSpPr>
        <p:spPr>
          <a:xfrm>
            <a:off x="0" y="410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аков Д.Н. Большой толковый словарь современного русского язы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ин В.И. Энциклопедия этикет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Times New Roman"/>
                <a:ea typeface="宋体"/>
                <a:hlinkClick r:id="rId1"/>
              </a:rPr>
              <a:t>http://ru.wikiped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Times New Roman"/>
                <a:ea typeface="宋体"/>
                <a:hlinkClick r:id="rId3"/>
              </a:rPr>
              <a:t>wordru.r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4"/>
              </a:rPr>
              <a:t>http://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Times New Roman"/>
                <a:ea typeface="宋体"/>
                <a:hlinkClick r:id="rId5"/>
              </a:rPr>
              <a:t>azbyka.k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графии с сайта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6"/>
              </a:rPr>
              <a:t>http://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Times New Roman"/>
                <a:ea typeface="宋体"/>
                <a:hlinkClick r:id="rId7"/>
              </a:rPr>
              <a:t>google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Times New Roman"/>
                <a:ea typeface="宋体"/>
                <a:hlinkClick r:id="rId9"/>
              </a:rPr>
              <a:t>ru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10"/>
              </a:rPr>
              <a:t>http://shalamonova.ucoz.r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11"/>
              </a:rPr>
              <a:t>http://mydrost.com/o-vezhlivost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351640" cy="6445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ктуальность: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гда, когда я прошу что-то у моих родителей или других взрослых, моя мама добавляет, а «волшебное слово». Когда я была совсем маленькой, я не знала, что это за слово, но потом  поняла, что речь идет о слове «пожалуйста». И теперь мне стало интересно, а какие  еще бывают «волшебные слова» и как они проявляют свое волшебство на людей? От родителей я узнала, что «волшебные слова» - это вежливые слова, которые люди употребляют в своей ре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49280"/>
            <a:ext cx="8424720" cy="6408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ъектом исследования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яются вежливые слова.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вежливых слов в речи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нашего исследования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вежливых слов в речи и их влияние на взаимоотношения людей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ть, как появились некоторые наиболее употребительные вежливые слова;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ознакомиться с некоторыми фактами использования вежливых слов и их влияния на взаимоотношение людей;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ледить употребление вежливых слов среди учащихся моего класс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http://s56.radikal.ru/i153/1002/c0/896fc47642c8.png"/>
          <p:cNvPicPr/>
          <p:nvPr/>
        </p:nvPicPr>
        <p:blipFill>
          <a:blip r:embed="rId1"/>
          <a:stretch/>
        </p:blipFill>
        <p:spPr>
          <a:xfrm>
            <a:off x="0" y="2786040"/>
            <a:ext cx="4645080" cy="4389480"/>
          </a:xfrm>
          <a:prstGeom prst="rect">
            <a:avLst/>
          </a:prstGeom>
          <a:ln w="0">
            <a:noFill/>
          </a:ln>
        </p:spPr>
      </p:pic>
      <p:sp>
        <p:nvSpPr>
          <p:cNvPr id="156" name="Выноска-облако 4"/>
          <p:cNvSpPr/>
          <p:nvPr/>
        </p:nvSpPr>
        <p:spPr>
          <a:xfrm>
            <a:off x="2124000" y="1268280"/>
            <a:ext cx="7020000" cy="3773520"/>
          </a:xfrm>
          <a:prstGeom prst="cloudCallout">
            <a:avLst>
              <a:gd name="adj1" fmla="val -7532"/>
              <a:gd name="adj2" fmla="val 6173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2771640" y="1790640"/>
            <a:ext cx="568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нформации в энциклопедии, словаре, Интернет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ителем, родител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58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  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жливые слова можно разделить на несколько групп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– приветствия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- благодарности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– просьбы;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– извин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Содержимое 3" descr="http://i049.radikal.ru/0805/85/cbca51c7fbbe.png"/>
          <p:cNvPicPr/>
          <p:nvPr/>
        </p:nvPicPr>
        <p:blipFill>
          <a:blip r:embed="rId1"/>
          <a:stretch/>
        </p:blipFill>
        <p:spPr>
          <a:xfrm>
            <a:off x="6500880" y="42148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ttp://s50.radikal.ru/i128/1101/ac/4f51d8f580b9.gif"/>
          <p:cNvPicPr/>
          <p:nvPr/>
        </p:nvPicPr>
        <p:blipFill>
          <a:blip r:embed="rId2"/>
          <a:stretch/>
        </p:blipFill>
        <p:spPr>
          <a:xfrm>
            <a:off x="-214200" y="0"/>
            <a:ext cx="3214440" cy="360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Солнце 6"/>
          <p:cNvSpPr/>
          <p:nvPr/>
        </p:nvSpPr>
        <p:spPr>
          <a:xfrm>
            <a:off x="214200" y="0"/>
            <a:ext cx="2214720" cy="1914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611280" y="2421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клоне, в коротких словах привета заключено очень большое и важное содержание: «Я тебя вижу, человек. Ты мне приятен. Знай, что я тебя уважаю и желаю тебе всего самого доброго: здоровья, мира, веселья, счастья». Вот что обозначает простое, обыкновенное слово «Здравствуйте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0" y="21805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асибо» – это самое вежливое слово в любом языке мира</a:t>
            </a:r>
            <a:r>
              <a:rPr b="1" lang="ru-RU" sz="3200" spc="-1" strike="noStrike">
                <a:solidFill>
                  <a:srgbClr val="737272"/>
                </a:solidFill>
                <a:latin typeface="Times New Roman"/>
                <a:ea typeface="Times New Roman"/>
              </a:rPr>
              <a:t>. 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на протяжении многих лет в различных туристических путеводителях и наставлениях туристам указывается, что произнесенное «спасибо» даже с акцентом на языке пребывания, не только повышает качество и скорость обслуживания в целом, но еще и позволяет наладить спокойный и приятный отдых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420840" y="234936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чень интересна история этого слова. Оно происходит от двух слов: «пожалуй» и «ста». В устах древнерусского человека слово «пожалуй»  означало: «сделай милость», «окажи любезность». Что касается маленького словечка «ста», то оно является устаревшей формой обращения, обычно в качестве приставки к имен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0" y="174096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Извините»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простое русское слово, значит простите мою вину. Если сильно провинился  лучше  сказать «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тите»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Слова извинения должны быть искренними и достаточными. Человек, владеющий культурой извинения, вежливый, воспитанный,  всегда коммуникабелен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9:29:26Z</dcterms:created>
  <dc:creator>Comp</dc:creator>
  <dc:description/>
  <dc:language>en-US</dc:language>
  <cp:lastModifiedBy>Александр Альдебенев</cp:lastModifiedBy>
  <dcterms:modified xsi:type="dcterms:W3CDTF">2020-02-27T20:08:51Z</dcterms:modified>
  <cp:revision>40</cp:revision>
  <dc:subject/>
  <dc:title>Проверка  безударной гласной  в корне слова</dc:title>
</cp:coreProperties>
</file>